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E19-A6AB-4F6A-9EFD-4279A1D4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EBB-53FD-4B24-B472-82C50F0C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C4D-DE2B-4B37-8571-5C666FA7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7FD-CE70-4C65-A09C-BBD60078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AD75-662D-48EF-8270-B3276B5C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8ACF-DD21-47DC-AA91-8C6D767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2DD-188A-4B47-848C-608B954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7772-22E4-4DA5-AFD6-DE9D54F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5E9-5C45-4518-B0BA-3A842A85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B377-7834-4902-8EDF-F292847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9E8F-3724-4508-9D92-1915D0D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B09-11ED-453B-A7CC-39A8AD9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C805-B930-490B-A735-279BD84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1C61-791E-4D67-AE9A-67A2314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F5B-2D2C-4F61-9DAB-EF0B4665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EAA8-8660-41C9-8B4F-6AB5C5A8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DA0F-BED3-4741-B199-32775388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33D-A787-4DF4-9FED-5A222E40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F2A-5B1C-4C1C-A15C-1594B0F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F38-1FEE-43D8-AB14-2A7D25C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196-A6B3-4C98-A839-FE93546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7E3-77C6-4E90-ABE3-B0954C49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EED-9CC3-4DA6-83DF-592F4A3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229-AD03-4DD9-911B-A8DFFB10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5194-02DD-4A64-BCFB-381B8A6985E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FE77-5E55-4F9F-A938-D67AA4E191D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оимость капитал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4071600"/>
            <a:ext cx="21844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d"/>
                </a:solidFill>
                <a:latin typeface="Times New Roman"/>
                <a:ea typeface="Times New Roman"/>
              </a:rPr>
              <a:t>Лекция 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обилизации значительных объемов денежных средств и финансирования крупномасштабных инвестиционных проектов и программ на экономически выгодных для предприятия условиях без угрозы вмешательства инвесторов в управление его текущей финансово-хозяйственной деятельностью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маневрирования при определении характеристик выпуска: все параметры облигационного займа (объем эмиссии, процентная ставка, сроки, условия обращения и погашения и т.д.) определяются эмитентом самостоятельно с учетом характера осуществляемого за счет привлекаемых средств инвестиционного проект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зможность аккумулирования денежных средств частных инвесторов, привлечения финансовых ресурсов юридических лиц на достаточно длительный срок (продолжительнее срока кредитов, предоставляемых коммерческими банками) и на более выгодных условиях с учетом реальной экономической обстановки и состояния финансового рынк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ение оптимального сочетания уровня доходности для инвесторов, с одной стороны, и уровня затрат предприятия-эмитента на подготовку и обслуживание облигационного займа, с другой сторон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44480" y="7524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реимущест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b* = [ N q*  + (N – P)/n] / [(N + 2 P)/3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P – сумма, получаемая от размещения одной облигации с учетом расходов на эмисс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q*  -  купонная ставка, скорректированная  учетом «эффекта налогового щит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Гордон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  =   D1 / Pm (1 – L) + 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s - стоимость акционерного капитал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 m - рыночная цена одной акции (цена размещения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D1 - дивиденд, выплачиваемый в первый год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g – ставка роста дивиденд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L – ставка, характеризующая расходы на эмиссию (в относительной величине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определения стоимости финансовых активов(САР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нимается решение о вложении капитала инвесторы учитывают два фактора – уровень доходности и уровень риска, связанный с данным финансовым активом. При этом их оценки данных параметров совпадаю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 и тот же инвестиционный горизонт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сех инвесторов одинаковое отношение к риску (это не инвесторы – спекулянты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существуют безрисковые активы и возможность брать и давать капитал взаймы под безрисковую процентную ставку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финансовые возможности инвесторов не влияют на их инвестиционные реш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цены активов не влияет поведение отдельных инвесто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рынке отсутствуют операционные издерж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Р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= f + B (Em  - f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C s = 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  - требуемая доходность акций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f   - доходность безрискового актив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Em  - средняя доходность на рынке акц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использования стоимости облиг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 s = YTM + (Em  - Emb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YTM – доходность к погашению облигационного займа, рассчитанная на полный срок жизни облиг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прибыли на акци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s =  EPS / Pm 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де EPS - величина прибыли на одну акцию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m - рыночная цена одной ак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ценка стоимости нераспределенной  прибыл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p   =   D1 / Pm + 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 использовании других методов эмиссионные издержки не учитываются и формулы расчета не претерпевают никаких изменен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5640" y="7650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редняя и предельная цена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ACC = ∑ Ck wk, г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Ck  - стоимость каждого источника средст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wk  - доля данного источника в общей сумме инвестируемо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пита́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вокупность товаров, имущества, активов, используемых для получения прибыли, богатстваВ более узком смысле это источник дохода в виде средств производства (физический капитал). Под денежным капиталом понимают деньги, с помощью которых приобретается физический капитал. Направление материальных и денежных средств в экономику, в производство, называют также капиталовложениями или инвестициями. Направленные на потребление ресурсы капиталом не являю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49000"/>
            <a:ext cx="792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ой капитал — переносит свою стоимость на продукт производства по частям за относительно большое время (например, станок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оротный капитал — переносит свою стоимость на продукт производства всю сразу (например, мука для выпечки хлеб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тоянный капитал — не изменяет размер стоимости, а лишь переносит её на результат производства сразу или по частям (все затраты, кроме заработной платы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менный капитал — используется для найма рабочей силы, имеет форму заработной платы, изменяет размер стоим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чий капитал — финансовый показатель, характеризующий ликвидность компан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на, которую предприятие платит за его использование, т.е. годовые расходы по обслуживанию задолженности перед инвесторами и кредиторами. Количественно она измеряется в виде процентной ставки, характеризующей отношение общей суммы данных расходов к сумме всего капит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оимость капитал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арактеризует тот уровень доходности инвестированного капитала, который должно обеспечить предприятие, чтобы не уменьшить свою рыночную стоим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асто используется в качестве ставки дисконтирования, в процессе анализа будущих денежных потоков и оценки эффективности производственных инвестиц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вляется также критерием принятия управленческих решений относительно использования лизинга  или  банковского кредита для приобретения основных производствен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казатель стоимости капитала в разрезе отдельных его элементов (стоимости заемных средств) используется в процессе управления структурой капитала на основе механизма финансового рычаг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0160" y="983880"/>
            <a:ext cx="8345160" cy="30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Источники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средств компани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краткосрочных средст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3933360"/>
            <a:ext cx="402120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едиторская задолж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43280" y="3933720"/>
            <a:ext cx="40212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ткосрочные ссуды и зай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124000" y="2421000"/>
            <a:ext cx="122400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076720" y="2421000"/>
            <a:ext cx="86364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294192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бствен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50960" y="7491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и долгосрочного капитал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867280" y="4005360"/>
            <a:ext cx="2305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емный капит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H="1">
            <a:off x="1834920" y="2421000"/>
            <a:ext cx="1368360" cy="158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796000" y="2421000"/>
            <a:ext cx="1081080" cy="16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2000" y="2853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Оценка стоимости облигационного займ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5:39:02Z</dcterms:created>
  <dc:creator>Пользователь</dc:creator>
  <dc:description/>
  <dc:language>en-US</dc:language>
  <cp:lastModifiedBy>Admin</cp:lastModifiedBy>
  <dcterms:modified xsi:type="dcterms:W3CDTF">2011-06-07T10:41:12Z</dcterms:modified>
  <cp:revision>3</cp:revision>
  <dc:subject/>
  <dc:title>стоимость капитала</dc:title>
</cp:coreProperties>
</file>